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73050"/>
        <c:axId val="32536979"/>
      </c:barChart>
      <c:catAx>
        <c:axId val="17373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36979"/>
        <c:crosses val="autoZero"/>
        <c:auto val="1"/>
        <c:lblAlgn val="ctr"/>
        <c:lblOffset val="100"/>
        <c:noMultiLvlLbl val="0"/>
      </c:catAx>
      <c:valAx>
        <c:axId val="32536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73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7D1-2901-42A7-A9F9-BBAE3B59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B72-62D8-4BD7-A7EE-3ADCFE32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1B1-A19A-4D11-89C5-F3853E75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1D7-4FAF-4186-B310-34FE0D0D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289-0FCD-43E4-BB3B-4CB4FD7F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F15F-E931-4959-9FE9-0D67643B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3B6-1F24-4A8D-A560-2924F247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B11-92E2-4A9F-A560-B699546A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59D-57B4-4B28-8870-21D0E484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28E-36DB-4E80-B09B-0F4179C0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4AA-E831-48A0-B18D-29F85F3F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A93-EA73-4BE1-B4E5-D4ECBAE3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6C5C-A92E-4BE1-BC27-74617066DC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