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75625"/>
        <c:axId val="90374596"/>
      </c:barChart>
      <c:catAx>
        <c:axId val="769756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74596"/>
        <c:crosses val="autoZero"/>
        <c:auto val="1"/>
        <c:lblAlgn val="ctr"/>
        <c:lblOffset val="100"/>
        <c:noMultiLvlLbl val="0"/>
      </c:catAx>
      <c:valAx>
        <c:axId val="90374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756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DC9-45A9-40A3-B0F7-7F87F87B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66E-3AE9-49C5-9365-1EA5FC42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A52A-280B-4A50-A0CD-F3506671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FE9-1000-476F-B134-1EB1440D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E41E-E42D-454A-BDC6-0366EFBD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B9D-C57A-4D4D-BC0E-671874E3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FC1-9B69-495A-AFDE-FDDE3F07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81F-DB5A-4A5F-A171-7F54E8FF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449-A7DD-469C-9AE9-9423E5B4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E44E-F33D-42D2-A43C-7B345B74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1EE-273F-4869-8022-4D5FE274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1C0-CF25-41D3-8845-1B44C79C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75B81-D113-4A68-83FC-4804E862D4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