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44856"/>
        <c:axId val="62124474"/>
      </c:barChart>
      <c:catAx>
        <c:axId val="65044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24474"/>
        <c:crosses val="autoZero"/>
        <c:auto val="1"/>
        <c:lblAlgn val="ctr"/>
        <c:lblOffset val="100"/>
        <c:noMultiLvlLbl val="0"/>
      </c:catAx>
      <c:valAx>
        <c:axId val="62124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44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90C-467B-4EF6-B788-C58C70BE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9C6-5FEC-4034-83E0-9FC595DF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82B-4281-4153-9762-17003F70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D4F-B237-4341-BC01-30CBE333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B0D-48F7-4978-B2F2-8C863ED8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F96-82AA-4A23-954B-4ACF1411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EE6-5096-446D-AC55-ABD925A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1AE-1612-46D9-87B4-6B480C99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149-457E-461C-8F2D-053A102F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9DE-91E8-48BC-B90C-A5E44CF6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4FB-D1FD-43B5-A1D0-009CD9C8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4FF-8233-444E-98CA-B71B61AD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D5085-1915-46BB-B82C-9108008D46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