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994264"/>
        <c:axId val="26664830"/>
      </c:barChart>
      <c:catAx>
        <c:axId val="479942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64830"/>
        <c:crosses val="autoZero"/>
        <c:auto val="1"/>
        <c:lblAlgn val="ctr"/>
        <c:lblOffset val="100"/>
        <c:noMultiLvlLbl val="0"/>
      </c:catAx>
      <c:valAx>
        <c:axId val="266648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942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E310-7A14-4697-8AB0-34F9B00A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7F14-382D-4292-B772-8ADD27FB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13D2-64B9-4C48-9D80-A3FF747A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EF22-B784-41A6-B4D6-2B285A65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8EAF-0320-4A95-B196-0B253F0E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658F-662D-4CDC-9ADA-B74C0902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A5F9-0D48-45D4-8479-7932AB68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C7BA-1D93-4ACD-9D85-EB347475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285-3E51-4440-A75D-79EFD8FB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2448-1BB6-4151-B731-3BD754D4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9C1D-91D6-4358-95D1-5D6206A8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F73B-75F1-433F-8C20-F7F02EDC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73D03-CF8A-4908-B9F8-AEB19A39DE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